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535D-1382-4AE4-BA9F-C69C43A9F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6E14-C235-4CA9-B39F-2D7F56C9F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A7B4-D218-4959-88E7-4E199F8CB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4792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188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7620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11F7-4DF3-4C6B-8FCC-AF644FEEE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772400" cy="9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7196-2385-49CB-A1EC-EBB2F840F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4792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1188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76200" y="46425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F1F7-DE69-41A8-994F-D97115282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700A-4EB2-49C6-BB95-C9DB1EA45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C49B-02AC-4ECC-81ED-7B034E799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772400" cy="9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4CED-365E-4A13-8F0E-58F8CBF60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F92A-912B-46A0-B669-D63FA4744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27880" y="46425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EEF8-E43D-4869-B5A9-19336550B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920" y="46425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F969-E93D-4B01-B8BA-D8C97767A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6960" y="662904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95280" y="659772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9:55Z</dcterms:modified>
  <cp:revision>52</cp:revision>
  <dc:subject/>
  <dc:title>幻灯片 1</dc:title>
</cp:coreProperties>
</file>